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43713" cy="9263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FF2-E8C8-4E06-8983-417E6E13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849-6756-4709-882E-91A7BC84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E20-378F-4E46-85AE-471C92A0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B0E-6B07-4CA8-AC59-507CC0F8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39B-467E-41BD-8452-6C87291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0CC-2DBE-490D-B020-A3CEBBA0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4B8-54DD-48EA-9232-C03A8301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151-56CA-4076-8A46-5E879725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493-616B-4BCE-A87B-B8EEC543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906-6FCC-431B-9915-C6B242C2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F51-0B64-45F9-B338-28FB0F8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AA3-E01B-4605-9530-F6E6E21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ACC-9E48-4EC1-A726-052D3170E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438280" y="5335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lington Township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828800"/>
            <a:ext cx="73152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dd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cellence By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6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71680" y="1066680"/>
          <a:ext cx="8001000" cy="533880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6, 100% of all students will achieve proficiency on the State exit examination in Math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nstr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une 20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une 20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 Benchmark (June 20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JAS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4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7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8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2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7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9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4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1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Test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32; Proficient by BTHS Standard = 3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1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1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4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2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Test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3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3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3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1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4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5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1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5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2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685800" y="4572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1640" indent="-9716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tudents will achieve proficiency in Mathematics according to the benchmarks outlined in the chart belo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95360" y="2104920"/>
            <a:ext cx="8153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year 2016, all students at Burlington Township High School will demonstrate increased academic proficiency in Language Arts Literacy as measu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of all students will achieve proficiency on the State exit examination in Language Arts Lite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1:  2009 NJASK 8 = 91.5% of the student in the Class of 2013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2.3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7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3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2:  2009 S-Test 9 = 83.3% of the student in the Class of 2012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35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80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4.6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3:  2009 S-Test 10 = 85% of the student in the Class of 2011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0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9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67.9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4:  2009 HSPA = 92.4% of the students in the Class of 2010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36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9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0.6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914400"/>
          <a:ext cx="8076960" cy="5562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87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6, 100% of all students will achieve proficiency on the State exit examination in Language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nstr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 Benchmark (June 20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une 20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une 20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JASK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3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5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1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1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7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5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Test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32; Proficient by BTHS Standard = 3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9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7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1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3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4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6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Test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8; Proficient by BTHS Standard = 3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1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6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4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4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7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3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533520" y="38088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1640" indent="-9716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  Students will achieve proficiency in LAL according to the benchmarks outlined in the chart belo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4640" indent="38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38916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38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38916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38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velop and implement a technology plan for the 2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hat best prepares our students for their post-secondary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971800"/>
            <a:ext cx="79250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16, 100% of the instructional classrooms on the high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pus will be equipped with a LCD projector and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2016, the high school campus will be a wireless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2016, all instructional staff will be rated advanced proficient in their knowledge and use of instructional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360" y="1676520"/>
            <a:ext cx="8153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9 – 2010, 38% of the instructional classrooms (total = 84) on the high school campus  are equipped with a LCD projector and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9 – 2010, zero percent of the high school campus is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9 – 2010, the instructional staff participated in a survey that rated their knowledge and use of instructional technologies on a continuum of “No Knowledge” to “Advanced Proficient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95360" y="685800"/>
          <a:ext cx="8153280" cy="579600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34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 By 2016, 100% of the instructional classroom on the high school campus will be equipped with a LCD projector and scree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Instrumen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2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4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6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 of Classroom Equipped with a LCD Projector and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tal = 32 of 84 roo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 of Classroom Equipped with a LCD Projector and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of Classrooms Equipped with a LCD Projector and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of Classrooms Equipped with a LCD Projector and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 By 2016, the high school campus will be a wireless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Instrumen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of high school campus that is wir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 will be wir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 will be wir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will be wir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 By 2016, all instructional staff will be rated advanced proficient in their knowledge and use of instructional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Instrumen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of Instructional Staff Rating Knowledge and Use of Instructional Technolo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taff will be ranked in the “No Knowledge” or “Occasional” 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taff will be ranked at a minimum of “Often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taff will be rated at the ranking of “Always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533520" y="380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62120" y="17524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3440" y="2543040"/>
            <a:ext cx="647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Priorities with Three to Five Measurable Go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8620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86080" y="4724280"/>
            <a:ext cx="617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an Action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ing Implementation Te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360" y="242100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66960" indent="-509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tat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reditation Visit:  October 19 - 22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09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 and Greet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isitation Team:  October 19 at 2:10 – BTHS Cafe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ency of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f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gi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fety &amp;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ility of curriculum gu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uation requirements across content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 team and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es allocated appropriat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keholders have input into financial ma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 and State-recognized theat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involvement in selecte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ety of programs off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ive governance and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en Pep and other mentor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Acceptable Us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odic Upgrades of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able Tech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Computers in Class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 between staff, parents &amp;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s/Duties of staff not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l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planning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 articulation to increase student achie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state and federal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ck of available storage for athl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Tech staf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many old 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facilities for video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performance levels in academic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and staff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D for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 Plan not adequate for pace of technological adv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participation in the strategic plann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ck of respect by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meeting time for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Cam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f training on managing volatile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95360" y="210492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year 2016, all students at Burlington Township High School will demonstrate increased academic proficiency in Mathematics as measu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of all students will achieve proficiency on the State exit examination in Mathema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1:  2009 NJASK 8 = 75.1% of the students in the Class of 2013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27.5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62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52.3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2:  2009 S-Test 9 = 67% of the students in the Class of 2012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16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55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52.6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3:  2009 S-Test 10 = 64.7% of the students in the Class of 2011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22.9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54.9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49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4:  2009 HSPA = 79.5% of the students in the Class of 2010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1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67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61.8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31:10Z</dcterms:created>
  <dc:creator>Nina Franco</dc:creator>
  <dc:description/>
  <dc:language>en-US</dc:language>
  <cp:lastModifiedBy>nfranco</cp:lastModifiedBy>
  <dcterms:modified xsi:type="dcterms:W3CDTF">2009-10-16T15:42:37Z</dcterms:modified>
  <cp:revision>105</cp:revision>
  <dc:subject/>
  <dc:title>Accelerated Reader + Instructional Council Members= Reading Success For All!</dc:title>
</cp:coreProperties>
</file>